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0D78C-6C74-4499-8066-B49068C07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4DDD-635A-482B-AD35-461BA0246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5F8E-E4EA-4DEA-9C0F-BA9DFA6D3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8056F-A4C2-4F23-AD84-2CE2FD549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1CB1E-B746-4798-99EF-773C1A691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0D465-0308-4ECD-85D6-A7366B2A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ABD67-3522-4425-BFCC-98A9426B4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E5C7E-136F-4935-BCE2-CC67C4F94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665F-F274-4E2C-A00E-D99C6459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F520-227F-4CB7-9A63-93EE9453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08D97-971E-48F5-B591-55873AAB0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6DF09-7A9F-4065-8C03-06E90A74C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1803-B70F-461D-9EB7-BFBA33253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3886200"/>
            <a:ext cx="8153280" cy="1752480"/>
          </a:xfrm>
          <a:prstGeom prst="rect">
            <a:avLst/>
          </a:prstGeom>
          <a:noFill/>
          <a:ln w="0">
            <a:noFill/>
          </a:ln>
        </p:spPr>
        <p: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2814480" y="3116160"/>
            <a:ext cx="3515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esiunea iunie-iuli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914040" y="1371240"/>
            <a:ext cx="4267080" cy="4419720"/>
          </a:xfrm>
          <a:prstGeom prst="rect">
            <a:avLst/>
          </a:prstGeom>
          <a:noFill/>
          <a:ln w="0">
            <a:noFill/>
          </a:ln>
          <a:effectLst>
            <a:outerShdw dist="107932" dir="13500000" blurRad="0" rotWithShape="0">
              <a:srgbClr val="808080">
                <a:alpha val="50000"/>
              </a:srgbClr>
            </a:outerShdw>
          </a:effectLst>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3a3</cp:lastModifiedBy>
  <dcterms:modified xsi:type="dcterms:W3CDTF">2012-06-18T11:02:5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